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98F-ADC0-47A4-9304-A3DEB57A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9E4-7528-4F0A-81C9-B68FE6D3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70E-28E2-4C36-9697-260172E9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994-D176-4475-8737-09384930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A3D-F402-47D3-83E2-048CB2D7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7DB-9B5C-409A-9F17-DFA2DEF6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37D-B766-4A94-9973-96930C8B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D12-17AF-4A0C-B331-5B39C134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FFD-AAE7-412C-94F2-3B931487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B06-7934-4EEF-B831-DCD523E9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787-6C72-45DC-97AA-45180193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5A3-633B-4EC8-8EEE-77F23D7A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0FC0-F08B-443C-A860-36CAB249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x 5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9 x 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12 x 1  4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multiply fractions and mixe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8019"/>
                </a:solidFill>
                <a:latin typeface="Academy Engraved LET"/>
              </a:rPr>
              <a:t>Fraction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 #1 rolls 2 dice (one becomes numerator, the other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e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e025"/>
                </a:solidFill>
                <a:latin typeface="Arial"/>
              </a:rPr>
              <a:t>Partner #2 doe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15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150f"/>
                </a:solidFill>
                <a:latin typeface="Arial"/>
              </a:rPr>
              <a:t>Multiply the two fractions.  Be sure to record your work on your paper – it will be turn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335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35d2"/>
                </a:solidFill>
                <a:latin typeface="Arial"/>
              </a:rPr>
              <a:t>Compare answers to be sure you a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92b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20ff"/>
                </a:solidFill>
                <a:latin typeface="Arial"/>
              </a:rPr>
              <a:t>Repeat completing as many problems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68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680d"/>
                </a:solidFill>
                <a:latin typeface="Arial"/>
              </a:rPr>
              <a:t>For added challenge, roll a 3rd number cube to create mixed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981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4 x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1/2 x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4/5 x  1  3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92880" y="61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. 60 12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2:22:27Z</dcterms:created>
  <dc:creator>ccps</dc:creator>
  <dc:description/>
  <dc:language>en-US</dc:language>
  <cp:lastModifiedBy>Brian McGrath</cp:lastModifiedBy>
  <dcterms:modified xsi:type="dcterms:W3CDTF">2011-03-10T03:04:47Z</dcterms:modified>
  <cp:revision>8</cp:revision>
  <dc:subject/>
  <dc:title>Warm-up:</dc:title>
</cp:coreProperties>
</file>